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B34-1B45-4154-82A6-F58D48A142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8F1-E79C-4A2D-B7D6-6053C68A02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16A-AC26-479F-A79E-5CD51497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CDB-B85A-432E-B56C-577423DD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CCAC-3CFC-4FAB-A623-2C4342F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B5C7-CE19-4957-8470-370AE406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5F7F-43E0-4605-8BAA-49FC0FF5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9EC5-B420-4624-896A-82AA53B5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0307-F654-45F7-BC4B-7595CAE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226B-9361-4F52-8C8D-FA3CF88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CC42-559B-432E-BE3A-1A231989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81B3-18FA-4238-84E7-71E217C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6A1D-8858-4000-AF52-4444583F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452-7879-45CF-8432-614506DD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C97-555F-4E22-9C96-54ECCFF6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61AD-3842-4A76-A3D2-E510E29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76AD-E4DC-4E75-B245-CE58693B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33D8-4E33-4611-8EAD-1918D18F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A14-2E1F-4DEE-A8CD-ADBB5EF0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53D9B-ED27-47EF-86C1-A06E8937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F8508-0BEB-4C46-BA12-E6E432E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2A4A0-9F13-4544-873B-6D647BD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7F9B-5A8E-4736-A093-6FFBEFE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E9A8E-FE1B-436B-A61A-88DB838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3F14-FB48-4BC7-AA98-73772F17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B13A-06F5-44E3-899F-909FA208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9611D-6C42-4590-97C5-0C277C7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829AC-92E5-48C9-B927-2DFCD8C0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5260-A94E-4789-B18E-080415DF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2DAAE-B2F3-4295-901E-F1E19C70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B3863-E025-454E-8D02-3FEFD10D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A1C9-3D91-4C7E-BB7C-2BBFAE0D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F3406-6DE2-4A0F-B5EE-40A9CA3A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4B5A8-CB77-4735-A4E3-8A70216F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CB5E-776D-409C-A75D-9E3EDC4A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B8E-AD89-4764-AF5D-6B474A3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66523-3A59-4646-A2BB-0CA63918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17006-3B01-4438-8C83-68EA8AF6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0A49-6C18-44E0-9864-9A1C95E0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ADDD-2526-45F1-A24E-EF107CAC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5A523-ECE4-430A-AEF6-749D6706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6369C-8D49-4020-882B-A58CFC3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1674-E919-4900-8378-6FD65817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4A308-DD0B-438D-8C35-89374348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7619D-1285-4590-AD0D-45168850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182ED-23AB-4A80-AD68-2586896E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AC9-1E31-4FB4-B71A-9C4A9D37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A29EC-22BE-4E92-84FD-E75804FA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6623-398A-46A4-84AB-C3A76D18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89B83-A278-42A5-BF1B-9D48F172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5EE5F-3E81-40FB-8BA3-5B2565E3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862FA-98EE-4957-9762-A4C0F320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D633-A3CF-4F00-824F-87118B2B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487E-697F-415B-98B3-5842FA43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854F0-A09C-4968-8016-8F2F407E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044D7-02A5-450C-8549-4AB9C10F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6EE0-4A5C-43D3-8B8D-1482449D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55F-4A3C-4736-90A2-F804E5BB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E2FE-CCBE-4690-BA7D-857A7317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DE2-A342-48EE-8653-15F4F27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B21-8031-452C-A29E-FF9FBD32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8C7-0286-4A89-A3BC-334C1714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A681-190D-4D18-B6B0-B20A23177CD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98E4-0108-4007-9B32-519545BD65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744E-6079-4B17-991A-A6A8A6AC3A4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3629-D0BE-4042-B2CE-DBD6D7C0E7C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9430-EC81-46EF-8ABF-1C6A456208F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9094680" cy="1414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Users\79995\Desktop\Ёжик на полянке\103790211_large_79695346_large_ezhik_2.jpg"/>
          <p:cNvPicPr/>
          <p:nvPr/>
        </p:nvPicPr>
        <p:blipFill>
          <a:blip r:embed="rId2"/>
          <a:stretch/>
        </p:blipFill>
        <p:spPr>
          <a:xfrm>
            <a:off x="395280" y="1484280"/>
            <a:ext cx="4105440" cy="516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Users\79995\Desktop\Ёжик на полянке\79695358_yozhik_1.jpg"/>
          <p:cNvPicPr/>
          <p:nvPr/>
        </p:nvPicPr>
        <p:blipFill>
          <a:blip r:embed="rId3"/>
          <a:stretch/>
        </p:blipFill>
        <p:spPr>
          <a:xfrm>
            <a:off x="4788000" y="1484280"/>
            <a:ext cx="4113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02972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Ёжик на полянке\79695346_ezhik_2.jpg"/>
          <p:cNvPicPr/>
          <p:nvPr/>
        </p:nvPicPr>
        <p:blipFill>
          <a:blip r:embed="rId1"/>
          <a:stretch/>
        </p:blipFill>
        <p:spPr>
          <a:xfrm>
            <a:off x="324000" y="1413000"/>
            <a:ext cx="4030560" cy="5068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79995\Desktop\Ёжик на полянке\79695356_yozhik2a.jpg"/>
          <p:cNvPicPr/>
          <p:nvPr/>
        </p:nvPicPr>
        <p:blipFill>
          <a:blip r:embed="rId2"/>
          <a:stretch/>
        </p:blipFill>
        <p:spPr>
          <a:xfrm>
            <a:off x="4572000" y="1052640"/>
            <a:ext cx="4284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Arial"/>
              </a:rPr>
              <a:t>Пример работы «Ёжик на полян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C:\Users\79995\Desktop\Ёжик на полянке\79695358_yozhik_1.jpg"/>
          <p:cNvPicPr/>
          <p:nvPr/>
        </p:nvPicPr>
        <p:blipFill>
          <a:blip r:embed="rId1"/>
          <a:stretch/>
        </p:blipFill>
        <p:spPr>
          <a:xfrm>
            <a:off x="250920" y="1397160"/>
            <a:ext cx="4392360" cy="5460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C:\Users\79995\Desktop\Ёжик на полянке\101312675_5177462_yozhik_1a.jpg"/>
          <p:cNvPicPr/>
          <p:nvPr/>
        </p:nvPicPr>
        <p:blipFill>
          <a:blip r:embed="rId2"/>
          <a:stretch/>
        </p:blipFill>
        <p:spPr>
          <a:xfrm>
            <a:off x="4716360" y="1096920"/>
            <a:ext cx="4103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1"/>
          <p:cNvSpPr/>
          <p:nvPr/>
        </p:nvSpPr>
        <p:spPr>
          <a:xfrm>
            <a:off x="395280" y="26028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C:\Users\79995\Desktop\Ёжик на полянке 2\a289aaeead17cc1b951f22fd15d9a73e.jpg"/>
          <p:cNvPicPr/>
          <p:nvPr/>
        </p:nvPicPr>
        <p:blipFill>
          <a:blip r:embed="rId1"/>
          <a:stretch/>
        </p:blipFill>
        <p:spPr>
          <a:xfrm>
            <a:off x="826920" y="80172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6T12:31:25Z</dcterms:modified>
  <cp:revision>38</cp:revision>
  <dc:subject/>
  <dc:title>ТВОРЧЕСКАЯ ДЕЯТЕЛЬНОСТЬ: ЗНАКОМСТВО С ТЕХНИКОЙ ИЗОНИТЬ</dc:title>
</cp:coreProperties>
</file>